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ABB-54B2-4367-A0BA-E1D9B88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3B0-CC3F-4436-AE33-0D3EA46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CAE-C5F4-40B0-948D-E9958C8F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353-844B-4C01-A1C7-FC1EDC34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62B-D526-42DC-98D9-79E1CFC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F4F-47A8-4F9C-BBD6-A2C54F3C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817-9279-4985-ADC1-83ABEBE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667-0EE8-49D3-A2C9-8F1FB57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64F-C540-427D-9F59-96F6087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D1C-6721-47E8-AFA3-14DF8F2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CDE-8C81-42D5-A396-A92CDC3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EBC-8EAB-421F-8CB4-C1F8D5E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C24-FDBE-4B3D-B0DE-2DAACA8E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1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9718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urtyard Project EARLY EARTH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440" y="1219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nergy Transformations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15:51Z</dcterms:created>
  <dc:creator>CCPS</dc:creator>
  <dc:description/>
  <dc:language>en-US</dc:language>
  <cp:lastModifiedBy>CCPS</cp:lastModifiedBy>
  <dcterms:modified xsi:type="dcterms:W3CDTF">2010-04-16T11:16:02Z</dcterms:modified>
  <cp:revision>1</cp:revision>
  <dc:subject/>
  <dc:title>Slide 1</dc:title>
</cp:coreProperties>
</file>